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4F7-01B6-4AEC-9EBC-FE82E55BFD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8104-B9B7-4DD8-BCFB-109102ABD6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EDCC-CAD6-465D-9D08-5F3A4A45F8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758E-3D77-4F77-8F89-67DBD99DDB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F56A-0F9B-4987-8F5B-862EF24DF9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54DD-7DB1-4052-AAF3-F2734E62E4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C36F-5C66-429F-8486-3861A6763B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CCAD-F620-4028-A4E8-90354F82A3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428B-B1E8-4104-A0AF-87861ECC5A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A874-3C90-495F-95E5-43AC37B473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F9B8-2D4D-42A8-BE8B-9F7D0BC5E1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175212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ffects of World War I in the United States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6" descr="2707900_edit"/>
          <p:cNvPicPr/>
          <p:nvPr/>
        </p:nvPicPr>
        <p:blipFill>
          <a:blip r:embed="rId1"/>
          <a:stretch/>
        </p:blipFill>
        <p:spPr>
          <a:xfrm>
            <a:off x="2971800" y="3048120"/>
            <a:ext cx="2971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ounded Rectangle 4"/>
          <p:cNvSpPr/>
          <p:nvPr/>
        </p:nvSpPr>
        <p:spPr>
          <a:xfrm>
            <a:off x="609480" y="1523880"/>
            <a:ext cx="76964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143000" y="156996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e mail bomb was sent to Attorney General A. Mitchell Palmer, who launche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almer Raid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 192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09480" y="3214800"/>
            <a:ext cx="8077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olic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rrested thousa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f peop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were radicals; others were simply immigra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undreds of people wer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deported without a t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85800" y="51055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American Civil Liberties Union (ACLU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ormed in 1920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protect people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rights and liber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990720" y="12952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other example of the Red Scare was the trail of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Nicola Sacc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Bartolomeo Vanzetti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y were Italian anarchist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charged with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committing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murd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uring a robbery in Massachuset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828800" y="2971800"/>
            <a:ext cx="53341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tnesses claimed the robbers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ooked Italian.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espite little real evidence against them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acco and Vanzetti were convicted and execu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990720" y="52578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ny scholars and politicians believed that the men died because of their nationality and political belief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990720" y="1311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1920 presidential election, Republic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arren G. Hard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based his campaig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a call for 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ormalcy,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 return t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simpler time before President Wils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90720" y="3124080"/>
            <a:ext cx="48765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Voters rejected President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idealism and view of America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role in the wor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Harding won the election in a landsli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publicans also won control of Congre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8" descr="2707900_edit"/>
          <p:cNvPicPr/>
          <p:nvPr/>
        </p:nvPicPr>
        <p:blipFill>
          <a:blip r:embed="rId1"/>
          <a:stretch/>
        </p:blipFill>
        <p:spPr>
          <a:xfrm>
            <a:off x="5943600" y="3200400"/>
            <a:ext cx="24382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 flipH="1" rot="10800000">
            <a:off x="685800" y="1066680"/>
            <a:ext cx="7848720" cy="1981440"/>
          </a:xfrm>
          <a:prstGeom prst="upArrowCallout">
            <a:avLst>
              <a:gd name="adj1" fmla="val -38355"/>
              <a:gd name="adj2" fmla="val 36622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990720" y="1112760"/>
            <a:ext cx="75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espite Harding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desire to go back to earlier times, it became clear that a new world order had emerg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2971800"/>
            <a:ext cx="792504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Austro-Hungarian and Ottoman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empires no longer existed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and Russia had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new forms of government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ther nations were weaken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eanwhile, the United States was strong, confident, and prosperous. It became the world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economic center and larges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reditor n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56386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merica would wrestle with its relationship with the world in years to c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914400" y="213372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escribe the problems Americans faced immediately after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these problems contributed to the Red Sca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Understand how the war changed America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s role in world affai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219320"/>
            <a:ext cx="685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21932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914400" y="1981080"/>
            <a:ext cx="762012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nfluenz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lu vir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nfl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rising pr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Red Scar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despread fear of radicals and communi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almer Raid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 series of raids, arrests, and deportations of suspected radicals, most of whom never received a tr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21932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914400" y="2057400"/>
            <a:ext cx="76201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icola Sacco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Bartolomeo Vanzetti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talian anarchists convicted and executed for murder despite scarce evidence against th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arren G. Hard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lected president in 1920 by promising Americans a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turn to normalcy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reditor 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 nation that lends more money than it borro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447920" y="1295280"/>
            <a:ext cx="6933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hat political, economic, and social effects did World War I have on the United Sta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447920" y="2819520"/>
            <a:ext cx="67053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Treaty of Versailles produced an unstable peace. Its harsh terms left Germany with a strong desire for revenge, while Soviet Russia threatened revolution throughout the industrial worl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United States, the horrors of the war and the fear of radicals led people to question the nati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role in the wor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586080" cy="6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0"/>
          <p:cNvSpPr/>
          <p:nvPr/>
        </p:nvSpPr>
        <p:spPr>
          <a:xfrm>
            <a:off x="380880" y="1219320"/>
            <a:ext cx="83059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transition to peace was made more difficult by a deadl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nfluenz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andemic that began in 1918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09480" y="312408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flu killed 550,000 Americans and more than 50 million people around the wor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2" descr="HSUS_ch19_s4_InfluenzaSpreadMap"/>
          <p:cNvPicPr/>
          <p:nvPr/>
        </p:nvPicPr>
        <p:blipFill>
          <a:blip r:embed="rId1"/>
          <a:stretch/>
        </p:blipFill>
        <p:spPr>
          <a:xfrm>
            <a:off x="4222800" y="2133720"/>
            <a:ext cx="415908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685800" y="1295280"/>
            <a:ext cx="7772400" cy="487692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969696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1447920"/>
          <a:ext cx="7315200" cy="433692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889560">
                <a:tc>
                  <a:txBody>
                    <a:bodyPr lIns="137160" rIns="137160" tIns="137160" bIns="0" anchor="t">
                      <a:noAutofit/>
                    </a:bodyPr>
                    <a:p>
                      <a:pPr>
                        <a:spcAft>
                          <a:spcPts val="16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nomic troubles also caused problems in the United States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447360">
                <a:tc>
                  <a:txBody>
                    <a:bodyPr lIns="137160" rIns="137160" tIns="137160" bIns="0" anchor="t">
                      <a:noAutofit/>
                    </a:bodyPr>
                    <a:p>
                      <a:pPr marL="228600" indent="-228600">
                        <a:spcAft>
                          <a:spcPts val="1650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cessio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or economic slowdown, occurred after the wa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spcAft>
                          <a:spcPts val="1650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y women and African Americans lost their jobs to returning soldier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spcAft>
                          <a:spcPts val="1650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ension over jobs and housing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led to race riots in some citi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spcAft>
                          <a:spcPts val="1650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rcity of consumer goods and high demand caused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nflation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r rising pric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 flipH="1" rot="10800000">
            <a:off x="876240" y="1523880"/>
            <a:ext cx="7391520" cy="2360880"/>
          </a:xfrm>
          <a:prstGeom prst="upArrowCallout">
            <a:avLst>
              <a:gd name="adj1" fmla="val 35747"/>
              <a:gd name="adj2" fmla="val 33106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52480" y="167652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ecause rising prices made it harder to make ends meet, inflation caused labor unre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5800" y="3862440"/>
            <a:ext cx="80010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any unions went on strike for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higher pay and shorter workday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9, more than 4 million workers went on strik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orkers succeeded in some strikes, but lost far more. Some strikes turned viol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flipH="1" rot="5400000">
            <a:off x="1218240" y="1371600"/>
            <a:ext cx="3200400" cy="4267080"/>
          </a:xfrm>
          <a:prstGeom prst="upArrowCallout">
            <a:avLst>
              <a:gd name="adj1" fmla="val 20937"/>
              <a:gd name="adj2" fmla="val 20519"/>
              <a:gd name="adj3" fmla="val 21104"/>
              <a:gd name="adj4" fmla="val 53315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14400" y="2362320"/>
            <a:ext cx="289548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everal events combined to create the firs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Red Scar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 the United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952880" y="2133720"/>
            <a:ext cx="35053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Violent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emergence of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oviet Un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s a communist count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series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ail bomb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argeting industrialists and government offic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1:01:25Z</dcterms:modified>
  <cp:revision>181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